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jeop.wav" ContentType="audio/x-wav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C3B8A-82C3-41D6-B663-5B9CB7387F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 Ev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361D5-AFEC-46C0-AB16-1CDA811163E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9895-087F-4924-ACFE-5BC35384D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82ED-F855-4B21-A3E2-AE5B7A608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5A18-F101-43D3-86FA-C677FDA46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2782-2F99-44D9-900F-9AA49C2A6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FE0A3-8582-455F-8FFE-FD3AFCAAC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10563-E5A3-4042-B41F-E1E941926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14748-270F-4B22-A51B-5A8E367F5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25EB3-265E-4017-8A47-006B59675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A268D-2917-4628-913F-A8DD7FF18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C8AD4-A920-41B6-A8D3-46ED49151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74C30-8291-4BE9-A7C1-04DA8F35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A5EE-C291-49C0-A827-051FDB815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CD0D4-1323-430F-8A69-84D757F0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9C8C5-DF98-46DB-8065-9EB4C474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81296-8DAF-47CA-9F7C-D0214859F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4405D-A860-48DB-B209-B1584276A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8A80F-EB9C-48DC-953F-851C403A7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18A7-7A2E-434E-B06D-C4BD052F6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3EC4-650D-4D2F-A408-11455E29B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6019-CF25-4403-8B74-E8212DFD6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2FCF-3A54-47AF-818B-21881532D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60E9-747C-4365-B9E4-6B517540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F097-957B-4D8F-8616-6F627759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1359-F2DF-4471-9D82-319F048B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BB514-2449-47FB-A248-64D99DBC98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C3C40-725F-4A41-BF16-DFA52FA36F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4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44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18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48.xml"/><Relationship Id="rId24" Type="http://schemas.openxmlformats.org/officeDocument/2006/relationships/slide" Target="slide20.xml"/><Relationship Id="rId25" Type="http://schemas.openxmlformats.org/officeDocument/2006/relationships/slide" Target="slide30.xml"/><Relationship Id="rId26" Type="http://schemas.openxmlformats.org/officeDocument/2006/relationships/slide" Target="slide40.xml"/><Relationship Id="rId27" Type="http://schemas.openxmlformats.org/officeDocument/2006/relationships/slide" Target="slide50.xml"/><Relationship Id="rId28" Type="http://schemas.openxmlformats.org/officeDocument/2006/relationships/slide" Target="slide52.xml"/><Relationship Id="rId29" Type="http://schemas.openxmlformats.org/officeDocument/2006/relationships/audio" Target="../media/jeop.wav"/><Relationship Id="rId3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Jeopardy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8" name="Object 3"/>
          <p:cNvGraphicFramePr/>
          <p:nvPr/>
        </p:nvGraphicFramePr>
        <p:xfrm>
          <a:off x="762120" y="1523880"/>
          <a:ext cx="7775280" cy="463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23880"/>
                    <a:ext cx="7775280" cy="463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Text Box 4"/>
          <p:cNvSpPr/>
          <p:nvPr/>
        </p:nvSpPr>
        <p:spPr>
          <a:xfrm>
            <a:off x="906480" y="1752480"/>
            <a:ext cx="11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CC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3886200" y="152388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tr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5394240" y="1523880"/>
            <a:ext cx="132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n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6848280" y="1752480"/>
            <a:ext cx="14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15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16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17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18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19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20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21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22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23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24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25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26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27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28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29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30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31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32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33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34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47"/>
          <p:cNvSpPr/>
          <p:nvPr/>
        </p:nvSpPr>
        <p:spPr>
          <a:xfrm>
            <a:off x="6770160" y="6324480"/>
            <a:ext cx="198684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8" action="ppaction://hlinksldjump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Box 36"/>
          <p:cNvSpPr/>
          <p:nvPr/>
        </p:nvSpPr>
        <p:spPr>
          <a:xfrm>
            <a:off x="2438280" y="144792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thing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FCCL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4"/>
          <p:cNvSpPr/>
          <p:nvPr/>
        </p:nvSpPr>
        <p:spPr>
          <a:xfrm>
            <a:off x="1927080" y="3168720"/>
            <a:ext cx="676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ability to guide or direct other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FCCL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4"/>
          <p:cNvSpPr/>
          <p:nvPr/>
        </p:nvSpPr>
        <p:spPr>
          <a:xfrm>
            <a:off x="1911240" y="3168720"/>
            <a:ext cx="393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Leadership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Clothing Desig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4"/>
          <p:cNvSpPr/>
          <p:nvPr/>
        </p:nvSpPr>
        <p:spPr>
          <a:xfrm>
            <a:off x="1066680" y="3168720"/>
            <a:ext cx="727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method of stitching two pieces of fabric toge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Clothing Desig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4"/>
          <p:cNvSpPr/>
          <p:nvPr/>
        </p:nvSpPr>
        <p:spPr>
          <a:xfrm>
            <a:off x="1907640" y="3168720"/>
            <a:ext cx="316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 seam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Clothing Desig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4"/>
          <p:cNvSpPr/>
          <p:nvPr/>
        </p:nvSpPr>
        <p:spPr>
          <a:xfrm>
            <a:off x="1906560" y="3168720"/>
            <a:ext cx="6956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amount of extra frabric add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 allow for a seam.  This is the are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etween the cut edge and the sea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itchi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Clothing Desig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4"/>
          <p:cNvSpPr/>
          <p:nvPr/>
        </p:nvSpPr>
        <p:spPr>
          <a:xfrm>
            <a:off x="1918440" y="3168720"/>
            <a:ext cx="512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 seam allowanc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Clothing Desig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4"/>
          <p:cNvSpPr/>
          <p:nvPr/>
        </p:nvSpPr>
        <p:spPr>
          <a:xfrm>
            <a:off x="1924920" y="3168720"/>
            <a:ext cx="646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general term which describe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othing/garment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Clothing Desig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4"/>
          <p:cNvSpPr/>
          <p:nvPr/>
        </p:nvSpPr>
        <p:spPr>
          <a:xfrm>
            <a:off x="1908000" y="3168720"/>
            <a:ext cx="32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pparel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Clothing Desig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4"/>
          <p:cNvSpPr/>
          <p:nvPr/>
        </p:nvSpPr>
        <p:spPr>
          <a:xfrm>
            <a:off x="1925640" y="3168720"/>
            <a:ext cx="6651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seam that runs along the insi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g of pants, from the crotch 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he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Clothing Desig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4"/>
          <p:cNvSpPr/>
          <p:nvPr/>
        </p:nvSpPr>
        <p:spPr>
          <a:xfrm>
            <a:off x="1911240" y="3168720"/>
            <a:ext cx="38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inseam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FCCL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533520" y="3124080"/>
            <a:ext cx="886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udents Taking Action with Recogni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Clothing Desig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4"/>
          <p:cNvSpPr/>
          <p:nvPr/>
        </p:nvSpPr>
        <p:spPr>
          <a:xfrm>
            <a:off x="1988640" y="3168720"/>
            <a:ext cx="647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is stitching made up of sing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rward stitches.  Most sewing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chines use this as a standar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Clothing Desig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4"/>
          <p:cNvSpPr/>
          <p:nvPr/>
        </p:nvSpPr>
        <p:spPr>
          <a:xfrm>
            <a:off x="1915920" y="3168720"/>
            <a:ext cx="469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 straight stitch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Nutri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4"/>
          <p:cNvSpPr/>
          <p:nvPr/>
        </p:nvSpPr>
        <p:spPr>
          <a:xfrm>
            <a:off x="1924560" y="3168720"/>
            <a:ext cx="656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group provides nine essential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utrient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Nutri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4"/>
          <p:cNvSpPr/>
          <p:nvPr/>
        </p:nvSpPr>
        <p:spPr>
          <a:xfrm>
            <a:off x="1914840" y="3168720"/>
            <a:ext cx="464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Milk group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Nutri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4"/>
          <p:cNvSpPr/>
          <p:nvPr/>
        </p:nvSpPr>
        <p:spPr>
          <a:xfrm>
            <a:off x="2027160" y="3168720"/>
            <a:ext cx="6576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itamin B is provided by this foo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oup and helps to reduce the r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f heart disease and some cancer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Nutri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4"/>
          <p:cNvSpPr/>
          <p:nvPr/>
        </p:nvSpPr>
        <p:spPr>
          <a:xfrm>
            <a:off x="1915920" y="3168720"/>
            <a:ext cx="508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Grains Group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Nutri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1968840" y="3168720"/>
            <a:ext cx="651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meat and beans group provi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important nutrien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Nutri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4"/>
          <p:cNvSpPr/>
          <p:nvPr/>
        </p:nvSpPr>
        <p:spPr>
          <a:xfrm>
            <a:off x="1907640" y="3168720"/>
            <a:ext cx="319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protei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Nutri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4"/>
          <p:cNvSpPr/>
          <p:nvPr/>
        </p:nvSpPr>
        <p:spPr>
          <a:xfrm>
            <a:off x="1956960" y="3168720"/>
            <a:ext cx="7124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ods in this group provide importa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utrients such as potassium, folate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it. A, C and E also fib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Nutri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4"/>
          <p:cNvSpPr/>
          <p:nvPr/>
        </p:nvSpPr>
        <p:spPr>
          <a:xfrm>
            <a:off x="1895400" y="3168720"/>
            <a:ext cx="67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Vegetable Food Group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FCCL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4"/>
          <p:cNvSpPr/>
          <p:nvPr/>
        </p:nvSpPr>
        <p:spPr>
          <a:xfrm>
            <a:off x="1906560" y="3168720"/>
            <a:ext cx="558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FCCLA Star Event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Nutri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4"/>
          <p:cNvSpPr/>
          <p:nvPr/>
        </p:nvSpPr>
        <p:spPr>
          <a:xfrm>
            <a:off x="1994040" y="3168720"/>
            <a:ext cx="6817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group provides Vit. C, folate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tassium and fiber and may redu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isk of heart diseas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Nutri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4"/>
          <p:cNvSpPr/>
          <p:nvPr/>
        </p:nvSpPr>
        <p:spPr>
          <a:xfrm>
            <a:off x="1914480" y="3168720"/>
            <a:ext cx="454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fruit group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Financial Plann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4"/>
          <p:cNvSpPr/>
          <p:nvPr/>
        </p:nvSpPr>
        <p:spPr>
          <a:xfrm>
            <a:off x="1924920" y="3168720"/>
            <a:ext cx="6665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omething that is owed or that on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bound to pay to or perform 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oth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Financial Plann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4"/>
          <p:cNvSpPr/>
          <p:nvPr/>
        </p:nvSpPr>
        <p:spPr>
          <a:xfrm>
            <a:off x="1904760" y="3168720"/>
            <a:ext cx="279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Deb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Fianancial Plann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4"/>
          <p:cNvSpPr/>
          <p:nvPr/>
        </p:nvSpPr>
        <p:spPr>
          <a:xfrm>
            <a:off x="1918080" y="3168720"/>
            <a:ext cx="52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money that you spend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Financial Plann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4"/>
          <p:cNvSpPr/>
          <p:nvPr/>
        </p:nvSpPr>
        <p:spPr>
          <a:xfrm>
            <a:off x="1908720" y="3168720"/>
            <a:ext cx="355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expense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Financial Plann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4"/>
          <p:cNvSpPr/>
          <p:nvPr/>
        </p:nvSpPr>
        <p:spPr>
          <a:xfrm>
            <a:off x="1066680" y="3168720"/>
            <a:ext cx="824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statement of ones status with reg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 money or wealth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Financial Plann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"/>
          <p:cNvSpPr/>
          <p:nvPr/>
        </p:nvSpPr>
        <p:spPr>
          <a:xfrm>
            <a:off x="1980720" y="3168720"/>
            <a:ext cx="586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 Financial Statemen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Financial Plann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4"/>
          <p:cNvSpPr/>
          <p:nvPr/>
        </p:nvSpPr>
        <p:spPr>
          <a:xfrm>
            <a:off x="1927080" y="3168720"/>
            <a:ext cx="6726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monetary payment received f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oods or services or from sourc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s rents or investmen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Financial Plann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4"/>
          <p:cNvSpPr/>
          <p:nvPr/>
        </p:nvSpPr>
        <p:spPr>
          <a:xfrm>
            <a:off x="1908000" y="3168720"/>
            <a:ext cx="32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incom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FCCL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1923840" y="3168720"/>
            <a:ext cx="6220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 promote personal growth a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adership development throug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amily and Consumer Science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duc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Financial Plann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4"/>
          <p:cNvSpPr/>
          <p:nvPr/>
        </p:nvSpPr>
        <p:spPr>
          <a:xfrm>
            <a:off x="1928880" y="3168720"/>
            <a:ext cx="70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 itemized allotment of funds, time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tc. for a given tim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Financial Plann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4"/>
          <p:cNvSpPr/>
          <p:nvPr/>
        </p:nvSpPr>
        <p:spPr>
          <a:xfrm>
            <a:off x="1910880" y="3168720"/>
            <a:ext cx="380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Budgeting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Culinary Ar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4"/>
          <p:cNvSpPr/>
          <p:nvPr/>
        </p:nvSpPr>
        <p:spPr>
          <a:xfrm>
            <a:off x="1946880" y="3168720"/>
            <a:ext cx="568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provision of the mater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ecessary to support lif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Culinary Ar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4"/>
          <p:cNvSpPr/>
          <p:nvPr/>
        </p:nvSpPr>
        <p:spPr>
          <a:xfrm>
            <a:off x="1909440" y="3168720"/>
            <a:ext cx="347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nutritio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Culinary Ar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4"/>
          <p:cNvSpPr/>
          <p:nvPr/>
        </p:nvSpPr>
        <p:spPr>
          <a:xfrm>
            <a:off x="1924920" y="3168720"/>
            <a:ext cx="657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was considered the seat of th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nse of tast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Culinary Ar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4"/>
          <p:cNvSpPr/>
          <p:nvPr/>
        </p:nvSpPr>
        <p:spPr>
          <a:xfrm>
            <a:off x="1911240" y="3168720"/>
            <a:ext cx="366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palat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Culinary Ar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4"/>
          <p:cNvSpPr/>
          <p:nvPr/>
        </p:nvSpPr>
        <p:spPr>
          <a:xfrm>
            <a:off x="1908360" y="3168720"/>
            <a:ext cx="6816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orks directly with the preparatio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t food for service in variou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stablishment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Culinary Ar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4"/>
          <p:cNvSpPr/>
          <p:nvPr/>
        </p:nvSpPr>
        <p:spPr>
          <a:xfrm>
            <a:off x="1906920" y="3168720"/>
            <a:ext cx="300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 chef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Culinary Ar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4"/>
          <p:cNvSpPr/>
          <p:nvPr/>
        </p:nvSpPr>
        <p:spPr>
          <a:xfrm>
            <a:off x="1949400" y="316872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room used for cooking an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od preparatio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Culinary Ar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4"/>
          <p:cNvSpPr/>
          <p:nvPr/>
        </p:nvSpPr>
        <p:spPr>
          <a:xfrm>
            <a:off x="1909800" y="3168720"/>
            <a:ext cx="35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 kitche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FCCL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4"/>
          <p:cNvSpPr/>
          <p:nvPr/>
        </p:nvSpPr>
        <p:spPr>
          <a:xfrm>
            <a:off x="1901160" y="3168720"/>
            <a:ext cx="472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FCCLA  Motto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Culinary Ar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4"/>
          <p:cNvSpPr/>
          <p:nvPr/>
        </p:nvSpPr>
        <p:spPr>
          <a:xfrm>
            <a:off x="1929960" y="3168720"/>
            <a:ext cx="724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study concerned with all technic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spects of foo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Culinary Ar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4"/>
          <p:cNvSpPr/>
          <p:nvPr/>
        </p:nvSpPr>
        <p:spPr>
          <a:xfrm>
            <a:off x="1909080" y="3168720"/>
            <a:ext cx="35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Nutritio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332280" y="2438280"/>
            <a:ext cx="853524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promote personal growth and leadership development throu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mily and consumer sciences education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cusing on the multiple roles of family member, wage earn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community leader, members develop skills for life through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racter development; creative and critical thinking; interpers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unications; practical knowledge; and vocational preparation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3" name="final_Q.wav" descr=""/>
          <p:cNvPicPr/>
          <p:nvPr/>
        </p:nvPicPr>
        <p:blipFill>
          <a:blip r:embed="rId1"/>
          <a:stretch/>
        </p:blipFill>
        <p:spPr>
          <a:xfrm>
            <a:off x="7467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5" descr="m_button"/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 Answe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1520280" y="2766960"/>
            <a:ext cx="6368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the FCCLA motto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7" name="Picture 4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FCCL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4"/>
          <p:cNvSpPr/>
          <p:nvPr/>
        </p:nvSpPr>
        <p:spPr>
          <a:xfrm>
            <a:off x="1921320" y="3168720"/>
            <a:ext cx="601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 advantage or something yo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ceive for being a memb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FCCL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4"/>
          <p:cNvSpPr/>
          <p:nvPr/>
        </p:nvSpPr>
        <p:spPr>
          <a:xfrm>
            <a:off x="1918440" y="3168720"/>
            <a:ext cx="551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Benefits of FCCLA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FCCL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4"/>
          <p:cNvSpPr/>
          <p:nvPr/>
        </p:nvSpPr>
        <p:spPr>
          <a:xfrm>
            <a:off x="1929240" y="3168720"/>
            <a:ext cx="75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embership Campaign tool for FCCL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FCCL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1913400" y="3168720"/>
            <a:ext cx="430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Be Part of It!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DeBates, Debra</cp:lastModifiedBy>
  <dcterms:modified xsi:type="dcterms:W3CDTF">2009-09-14T21:18:13Z</dcterms:modified>
  <cp:revision>31</cp:revision>
  <dc:subject/>
  <dc:title>Jeopardy</dc:title>
</cp:coreProperties>
</file>